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CC1-06A8-4CDE-81B4-56DA58F7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442-401B-437F-A442-635D55AD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1FA-6FE9-426F-B529-E6DAD6AF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71ED-87CE-4E59-8D91-C2EF15D3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59D4-56C9-4E61-A60D-42CC8324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378-9F3A-4522-9E3D-CA79490E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C031-07C6-43BB-95FF-7393A507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4AF-F84C-4057-A94D-90CCE4FB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855-F0BA-40FD-9950-ADD8F7CE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3628-B9C1-48FD-8A7B-A2B27524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5028-9A3F-4937-AF6A-8720077C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228-666D-4936-BC8B-C66E520C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D810-7FC3-4DFD-9CAD-40B6E01C992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4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i="1" lang="en-US" sz="44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Γνωριμία με συμμαθητές και καθηγητέ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νάλυση θέματος σε επιμέρους παραρτήματ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5483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i="1" lang="en-US" sz="40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ιαχωρισμός των μαθητών σε 4 ομάδ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πιλογή θέματος για κάθε ομάδ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525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i="1" lang="en-US" sz="40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ναζήτηση και αξιολόγηση αξιόπιστων και μη πληροφορ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i="1" lang="en-US" sz="40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Σύνταξη ερωτηματολογίο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Συμπλήρωση ερωτηματολογίων από πολίτες διαφόρων ηλικ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ξιολόγηση και επιλογή τοίχου για σχεδιασμό έργο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0" i="1" lang="en-US" sz="40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λοκλήρωση εργασ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γκέντρωση στατιστικών από τα ερωτηματολόγι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γκέντρωση ομαδικών και ατομικών ημερολογίω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1:07:22Z</dcterms:created>
  <dc:creator>user03</dc:creator>
  <dc:description/>
  <dc:language>en-US</dc:language>
  <cp:lastModifiedBy>user03</cp:lastModifiedBy>
  <dcterms:modified xsi:type="dcterms:W3CDTF">2013-01-15T12:10:06Z</dcterms:modified>
  <cp:revision>4</cp:revision>
  <dc:subject/>
  <dc:title>52</dc:title>
</cp:coreProperties>
</file>